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pyru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pyru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pyru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pyru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A0269F-977A-4E94-8FC5-CC7101C79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9CD32F-1553-45E8-A53E-5D67FFFA7B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pyru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393E00-046F-4906-9302-E141090407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pyru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3A0409-AEC4-42A6-A9C4-F3BE80217C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pyru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4F4D6B-1B22-4A8D-8D2C-265E84F199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pyru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6532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4560" y="4427280"/>
            <a:ext cx="514044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A7D39A-3926-4B39-93B6-7768007478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pyru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F0CB-2ED2-417D-988B-CCFE94806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5538-F883-451D-9535-8C9549DCC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F1BE-622E-4EFF-A8F0-E41DBDE05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37C7-9888-44A5-909E-2921FE9B8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75DB0-0FB0-4D36-B363-34D4DABE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F3B63-1933-41C2-9AF0-C4995C34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4575C-0DF5-46C6-BC23-B5F45A13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3A5B3-4FA4-41C5-9A8D-B277FA86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6D3D2-B944-488C-801F-2C488387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CF06A-17E9-4CAE-AD19-8006EDAC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54DD7-C0BB-4EFC-B664-52E3F4A3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B545-70D9-4C8F-AB14-8E82CBA68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59F3F-D631-438C-93ED-1FDA5DE5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19D60-7C77-414A-B21B-EECC4807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8828B-6A34-42F7-A18B-5D07D4BD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E7ADF-89D8-4C48-9AB9-289FF91F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BEC6E-8ED4-46C9-86AF-C9B68015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6498-F97F-4CB6-B2D3-07A8A71CC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C5A5-706B-49A9-9AC5-0B128D7DD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833A-F7E8-42DD-87AC-67A88EA6E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B1B6-A15F-4A0F-A8BE-C4CED5EB1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9172-77D9-4EA1-A9F3-4CAF7985D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18F9-A5E5-4712-A72D-3A90EEA5D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4F53-0684-4C63-A52E-15D7EBB5F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4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559A-9D48-49E6-8420-5C10379EA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pyrus"/>
            </a:endParaRPr>
          </a:p>
        </p:txBody>
      </p:sp>
      <p:pic>
        <p:nvPicPr>
          <p:cNvPr id="3" name="Picture 7" descr="sm teal togo box no shadow"/>
          <p:cNvPicPr/>
          <p:nvPr/>
        </p:nvPicPr>
        <p:blipFill>
          <a:blip r:embed="rId2"/>
          <a:stretch/>
        </p:blipFill>
        <p:spPr>
          <a:xfrm>
            <a:off x="228600" y="228600"/>
            <a:ext cx="115236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4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sm teal togo box no shadow"/>
          <p:cNvPicPr/>
          <p:nvPr/>
        </p:nvPicPr>
        <p:blipFill>
          <a:blip r:embed="rId2"/>
          <a:stretch/>
        </p:blipFill>
        <p:spPr>
          <a:xfrm>
            <a:off x="4038480" y="5178600"/>
            <a:ext cx="1067040" cy="917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pyru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pyru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EE8F-9104-44A0-8054-5858B5D89A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Papyrus"/>
              </a:rPr>
              <a:t>Western Tribal Diabetes Project</a:t>
            </a:r>
            <a:endParaRPr b="1" lang="en-US" sz="36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152280" y="1676520"/>
            <a:ext cx="349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DMS Trai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are, EHR, Qman, visual D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5 tribal participants tra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off site / rem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s on interactive i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867280" y="1828800"/>
            <a:ext cx="3353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 tribal site vis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0 technical assistanc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Project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Picture 074.jpg"/>
          <p:cNvPicPr/>
          <p:nvPr/>
        </p:nvPicPr>
        <p:blipFill>
          <a:blip r:embed="rId1"/>
          <a:stretch/>
        </p:blipFill>
        <p:spPr>
          <a:xfrm>
            <a:off x="3419640" y="1981080"/>
            <a:ext cx="252396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Partners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105520" y="91404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of information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ertise training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land Area I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ve American Fitness Counc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rcRect l="0" t="0" r="52941" b="45455"/>
          <a:stretch/>
        </p:blipFill>
        <p:spPr>
          <a:xfrm>
            <a:off x="3276720" y="2286000"/>
            <a:ext cx="1828800" cy="27432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76320" y="1523880"/>
            <a:ext cx="327636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(body)"/>
              </a:rPr>
              <a:t>National Diabetes &amp; Prevention Program</a:t>
            </a:r>
            <a:endParaRPr b="0" lang="en-US" sz="2600" spc="-1" strike="noStrike">
              <a:solidFill>
                <a:srgbClr val="ffffff"/>
              </a:solidFill>
              <a:latin typeface="Papyru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pyru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(body)"/>
              </a:rPr>
              <a:t>Youth Project</a:t>
            </a:r>
            <a:endParaRPr b="0" lang="en-US" sz="2400" spc="-1" strike="noStrike">
              <a:solidFill>
                <a:srgbClr val="ffffff"/>
              </a:solidFill>
              <a:latin typeface="Papyru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pyru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(body)"/>
              </a:rPr>
              <a:t>National data team</a:t>
            </a:r>
            <a:endParaRPr b="0" lang="en-US" sz="2400" spc="-1" strike="noStrike">
              <a:solidFill>
                <a:srgbClr val="ffffff"/>
              </a:solidFill>
              <a:latin typeface="Papyru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pyru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(body)"/>
              </a:rPr>
              <a:t>DMS Web training all SDPI programs</a:t>
            </a:r>
            <a:endParaRPr b="0" lang="en-US" sz="2400" spc="-1" strike="noStrike">
              <a:solidFill>
                <a:srgbClr val="ffffff"/>
              </a:solidFill>
              <a:latin typeface="Papyru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pyru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(body)"/>
              </a:rPr>
              <a:t>Cimarron</a:t>
            </a:r>
            <a:endParaRPr b="0" lang="en-US" sz="2600" spc="-1" strike="noStrike">
              <a:solidFill>
                <a:srgbClr val="ffffff"/>
              </a:solidFill>
              <a:latin typeface="Papyru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Partnerships – sub contracts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Healthy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ne tribes in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gate report for cdc change to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cy development – tobacco, physical activity, and 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d Hutchinson Instit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ms Proje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merican Indian Multi-state stud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0 interviews cancer surviv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nalysis i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Wtdp resources 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3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cut and reference manual – dms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bal Health Status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339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son report for standards of care tribe/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339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es surveillance trends (seven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W Diabetes Aggregate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etes Screening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Umatillpuppyandmama.jpg"/>
          <p:cNvPicPr/>
          <p:nvPr/>
        </p:nvPicPr>
        <p:blipFill>
          <a:blip r:embed="rId1"/>
          <a:stretch/>
        </p:blipFill>
        <p:spPr>
          <a:xfrm>
            <a:off x="5587920" y="1905120"/>
            <a:ext cx="3086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Total Patients in Register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Blood pressure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20680" y="1425600"/>
            <a:ext cx="877104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Hemoglobin  AIc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-20520" y="1569960"/>
            <a:ext cx="916452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Tobacco Use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1571760"/>
            <a:ext cx="90378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Tobacco Cessation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76320" y="1447920"/>
            <a:ext cx="910404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Weight Control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28600" y="1398600"/>
            <a:ext cx="83818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Papyrus"/>
              </a:rPr>
              <a:t>Western Tribal Diabetes Project</a:t>
            </a:r>
            <a:endParaRPr b="1" lang="en-US" sz="32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76320" y="16002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al interviewing- 2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 tribal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tribes and 1 urban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ryl Tonemah - tr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y Business (2 trainin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land – Spoka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 particip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– tribal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1752480" y="914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Papyrus"/>
              </a:rPr>
              <a:t>Activities </a:t>
            </a:r>
            <a:endParaRPr b="0" lang="en-US" sz="3200" spc="-1" strike="noStrike">
              <a:solidFill>
                <a:srgbClr val="ffffff"/>
              </a:solidFill>
              <a:latin typeface="Papyrus"/>
            </a:endParaRPr>
          </a:p>
        </p:txBody>
      </p:sp>
      <p:pic>
        <p:nvPicPr>
          <p:cNvPr id="108" name="Picture 6" descr="263 - Copy.JPG"/>
          <p:cNvPicPr/>
          <p:nvPr/>
        </p:nvPicPr>
        <p:blipFill>
          <a:blip r:embed="rId1"/>
          <a:stretch/>
        </p:blipFill>
        <p:spPr>
          <a:xfrm>
            <a:off x="5486400" y="1371600"/>
            <a:ext cx="374004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Papyrus"/>
              </a:rPr>
              <a:t>Native Fitness X July 30&amp;31</a:t>
            </a:r>
            <a:r>
              <a:rPr b="1" lang="en-US" sz="3600" spc="-1" strike="noStrike" baseline="30000">
                <a:solidFill>
                  <a:srgbClr val="ffff99"/>
                </a:solidFill>
                <a:latin typeface="Papyrus"/>
              </a:rPr>
              <a:t>st</a:t>
            </a:r>
            <a:r>
              <a:rPr b="1" lang="en-US" sz="3600" spc="-1" strike="noStrike">
                <a:solidFill>
                  <a:srgbClr val="ffff99"/>
                </a:solidFill>
                <a:latin typeface="Papyrus"/>
              </a:rPr>
              <a:t> 2013 </a:t>
            </a:r>
            <a:endParaRPr b="1" lang="en-US" sz="36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494000"/>
            <a:ext cx="44956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W &amp; National Progra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tivational Intervie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ryl Tonema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tive specif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ource C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st practice, toolkits, fact sheets, diabetes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790960" y="99072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tness activ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oot cam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erob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alk Stro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tive ga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ik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ay on Native L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-7 produ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DSC_0159 - Copy.JPG"/>
          <p:cNvPicPr/>
          <p:nvPr/>
        </p:nvPicPr>
        <p:blipFill>
          <a:blip r:embed="rId1"/>
          <a:stretch/>
        </p:blipFill>
        <p:spPr>
          <a:xfrm>
            <a:off x="0" y="4440240"/>
            <a:ext cx="91440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8:48:51Z</dcterms:created>
  <dc:creator>sbonnell</dc:creator>
  <dc:description/>
  <dc:language>en-US</dc:language>
  <cp:lastModifiedBy>Kerri Lopez</cp:lastModifiedBy>
  <dcterms:modified xsi:type="dcterms:W3CDTF">2013-07-08T17:54:17Z</dcterms:modified>
  <cp:revision>119</cp:revision>
  <dc:subject/>
  <dc:title>Slide 1</dc:title>
</cp:coreProperties>
</file>