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4EC6-076B-4E19-AF94-742F65B26E9B}" type="datetime5">
              <a:rPr b="0" lang="en-US" sz="12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2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3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8A10-B5B3-40CD-A4D3-BC2D5F70F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3884760" y="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9148-8DB5-481D-BA06-CCFF07423937}" type="datetime5">
              <a:rPr b="0" lang="en-US" sz="12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32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32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232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027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232160"/>
            <a:ext cx="264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32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27160"/>
            <a:ext cx="40158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32160"/>
            <a:ext cx="8229600" cy="20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7b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hobbs_masthead_wo_log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" descr="HSDW Logo_2Color.png"/>
          <p:cNvPicPr/>
          <p:nvPr/>
        </p:nvPicPr>
        <p:blipFill>
          <a:blip r:embed="rId3"/>
          <a:stretch/>
        </p:blipFill>
        <p:spPr>
          <a:xfrm>
            <a:off x="990720" y="76320"/>
            <a:ext cx="73008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TextBox 8"/>
          <p:cNvSpPr/>
          <p:nvPr/>
        </p:nvSpPr>
        <p:spPr>
          <a:xfrm>
            <a:off x="7696080" y="6319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F19E-D621-42A7-9963-DB1C5F055D21}" type="slidenum">
              <a:rPr b="1" lang="en-US" sz="1200" spc="-1" strike="noStrike">
                <a:solidFill>
                  <a:srgbClr val="9966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457200" y="6319800"/>
            <a:ext cx="754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33"/>
                </a:solidFill>
                <a:latin typeface="Times New Roman"/>
              </a:rPr>
              <a:t>HOBBS STRAUS DEAN &amp; WALKER, L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imes New Roman"/>
              </a:rPr>
              <a:t>WASHINGTON, DC | PORTLAND, OR | OKLAHOMA CITY, OK | SACRAMENT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7b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bbs_masthead_wo_log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SDW Logo_2Color.png"/>
          <p:cNvPicPr/>
          <p:nvPr/>
        </p:nvPicPr>
        <p:blipFill>
          <a:blip r:embed="rId3"/>
          <a:stretch/>
        </p:blipFill>
        <p:spPr>
          <a:xfrm>
            <a:off x="990720" y="76320"/>
            <a:ext cx="730080" cy="712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7696080" y="6319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B24C-B3AC-448F-8EB6-AFC8CF374F72}" type="slidenum">
              <a:rPr b="1" lang="en-US" sz="1200" spc="-1" strike="noStrike">
                <a:solidFill>
                  <a:srgbClr val="9966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57200" y="6319800"/>
            <a:ext cx="754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33"/>
                </a:solidFill>
                <a:latin typeface="Times New Roman"/>
              </a:rPr>
              <a:t>HOBBS STRAUS DEAN &amp; WALKER, L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imes New Roman"/>
              </a:rPr>
              <a:t>WASHINGTON, DC | PORTLAND, OR | OKLAHOMA CITY, OK | SACRAMENT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" descr="hobbs_masthead_wo_logo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HSDW Logo_2Color.png"/>
          <p:cNvPicPr/>
          <p:nvPr/>
        </p:nvPicPr>
        <p:blipFill>
          <a:blip r:embed="rId5"/>
          <a:stretch/>
        </p:blipFill>
        <p:spPr>
          <a:xfrm>
            <a:off x="990720" y="76320"/>
            <a:ext cx="730080" cy="712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7bf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hobbs_masthead_wo_log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SDW Logo_2Color.png"/>
          <p:cNvPicPr/>
          <p:nvPr/>
        </p:nvPicPr>
        <p:blipFill>
          <a:blip r:embed="rId3"/>
          <a:stretch/>
        </p:blipFill>
        <p:spPr>
          <a:xfrm>
            <a:off x="990720" y="76320"/>
            <a:ext cx="730080" cy="71280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7696080" y="6319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0545-0605-4D07-B87D-E17495C24F95}" type="slidenum">
              <a:rPr b="1" lang="en-US" sz="1200" spc="-1" strike="noStrike">
                <a:solidFill>
                  <a:srgbClr val="9966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57200" y="6319800"/>
            <a:ext cx="754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33"/>
                </a:solidFill>
                <a:latin typeface="Times New Roman"/>
              </a:rPr>
              <a:t>HOBBS STRAUS DEAN &amp; WALKER, L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Times New Roman"/>
              </a:rPr>
              <a:t>WASHINGTON, DC | PORTLAND, OR | OKLAHOMA CITY, OK | SACRAMENT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hobbs_masthead_wo_logo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HSDW Logo_2Color.png"/>
          <p:cNvPicPr/>
          <p:nvPr/>
        </p:nvPicPr>
        <p:blipFill>
          <a:blip r:embed="rId5"/>
          <a:stretch/>
        </p:blipFill>
        <p:spPr>
          <a:xfrm>
            <a:off x="990720" y="76320"/>
            <a:ext cx="730080" cy="712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sroels@hobbsstraus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bal Authority to Collect and Use Third-Party Reven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ff Strommer,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bbs, Straus, Dean, &amp; Walker, L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M/M &amp; CHIP Fund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401(d)(2)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M and CHIP funds collected under the direct billing authority must be used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ing or maintaining compliance with the requirements applicable to M/M and CHIP programs;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care services;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ments in health facilities or health programs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“health-related purpose;”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otherwise achieve the objectives of Section 3 of the IHCIA (e.g., ensure highest possible health st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 to Non-Benefici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me use provisions in Section 401(d)(2)(A) apply to all third-party collections for services provided to non-beneficiaries under Section 813 of the IH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M and C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ther third-party reim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te:  “shall be used for the purposes listed in section 401(d)(2)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Third-Party Reimburs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whether Section 401(d)(2)(A) also applies to other third-party reimbursements collected for services to eligible benefic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services not covered by Section 8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private insurance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nges on interpretation of Section 207 of the IHCIA regarding “crediting reimburseme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EAA Pro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not be necessary to solve the open legal question/interpret Section 2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EAA requires T/TO “program income” to be sp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 I: “[T]o further the general purpose of the contra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 V: “[A]s supplemental funding to that negotiated in the funding agre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EAA Provisions,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ble to all “program inco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third-party reimbursement received or recovered by Title I and Title V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M, CHIP, private insuranc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understood to mean that funds are to be used to supplement the funds Tribes receive to carry out health care-relat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New Fac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 Limi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F F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mbursements from the 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Facility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hird-party funds that are subject to 401(d)(2)(A) be used for new facility con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mitation on IHS in appropriations law, prohibiting use of M/M and CHIP collections for new facilities—does not appear in provision applicable to T/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 language in 401 should be read to include new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F 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reimburse T/TO’s PRC programs for catastrophic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tatements in IHCIA about how CHEF must be sp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S Administrative Guidelines for CHE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s made available for expenditures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ely for meeting extraordinary med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unts unused on approved case must be returned to IHS CHEF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terans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2901(b) of ACA:  T/TO are payers of last re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 must pay for services provided by T/TO to veterans per Section 405(c) of IH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reimbursement agreements between T/TO and the VA may provide limitations on use of reimbursements (e.g., refer to Section 401(d) of IHCIA) or may say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ossible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EAA Contracts:  Individual T/TO may have agreed to language in their ISDEAA agreements on use of third-party reven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Law: T/TO should consider whether they have agreed to comply with, or are otherwise subject to, any state law limitations on use of third-party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November 24, 2014, HHS Office of Inspector General Aler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tioned Tribes and Tribal Organizations (T/TO) to ensure that ISDEAA funds and M/M and CHIP reimbursements are properly allocated and sp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 What are the limits on how third-party reimbursements, for services provided to individuals with alternative health coverage, may be 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 or Comment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ff Strommer: </a:t>
            </a:r>
            <a:r>
              <a:rPr b="1" i="1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gstrommer@hobbsstraus.c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3-242-17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third-party reimbur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bal authority to col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s on funds in IHS “special fu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use M/M and CHIP reimbursements when directly b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ons for services to non-benefic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questions and other possible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d-Party Reven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federal program for individuals age 65+; younger based on certain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tate-run federal program for low-income individuals and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’s Health Insurance Program (CHIP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tate-run federal program offering free/low-cost care to eligible children, and sometimes families and pregnant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d-Party Reven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health insu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(e.g., Blue Cros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tfeas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ollections from liable third-parties, such as a person who caused an accident resulting in injury/medical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strophic Health Emergency Fund (CHE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HS funds for high-cost P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terans Administr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reimbursements VA makes to Tribes for services to veter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bes and Third-Party 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bes authorized by law to seek reimbursement for services from M/M, CHIP, other third-party payers – as health care providers responsible for health under ISDEA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third-party reimbursements may depend on provider type, facility type, relevant program and other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 of Third-Party 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IHCIA in 1976, IHS facilities could not bill for and collect M/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ress amended the Social Security Act via Title IV of the IHCIA in 1976 to authorize billing M/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 of Third-Party Funds Cont’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ed to “facilities of the IHS,” whether operated by IHS or T/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ly required collections to be placed into a “special fu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d to use the special fund for improvements necessary to achieve compliance with M/M participation/accreditation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 now in Section 401(c) of IH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CIA Reauthorization: Direct Bi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401(c)(2) now exempts tribal health programs from the “special fund” limitation if they elect to directly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401(d) now specifically authorizes T/TO to directly bill M/M, CHIP and any other third-party p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9:00:26Z</dcterms:created>
  <dc:creator>Andrea L. Cohen</dc:creator>
  <dc:description/>
  <dc:language>en-US</dc:language>
  <cp:lastModifiedBy>HSDW</cp:lastModifiedBy>
  <cp:lastPrinted>2015-01-05T20:11:29Z</cp:lastPrinted>
  <dcterms:modified xsi:type="dcterms:W3CDTF">2015-01-15T20:59:13Z</dcterms:modified>
  <cp:revision>44</cp:revision>
  <dc:subject/>
  <dc:title>Slide 1</dc:title>
</cp:coreProperties>
</file>